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CF7-7DF4-434D-BFCE-93AE1C12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597480"/>
            <a:ext cx="548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391-5C8E-4665-98F5-5DA921A4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0402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880-BDC5-461C-9774-093D161B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83680" y="144792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39120" y="144792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59748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83680" y="359748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939120" y="359748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92D-F19C-4A2A-B4AB-24731FA2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64A8-AC70-49FA-8B0A-06CDA984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8B15-5FC7-4256-AB5E-59A0F336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FE8B-BC88-47D8-B6FB-28C13190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2DC0-79FC-46AA-9A62-BCFDD922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BB09-9279-457D-95FE-096A8D84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1877-176B-49CD-B59A-B8B22F95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223B-A060-4C4E-9880-CCE166BF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D01-44A8-4766-8EC2-27F71F1C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02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5C69-9A71-4D63-9BB5-E81F7A13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548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B4B3-F95C-4974-80E1-78F29512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597480"/>
            <a:ext cx="548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5780-2D1E-4DF5-B04C-31BC8448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0402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425A-87F4-41DC-A626-C64E0579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83680" y="144792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39120" y="144792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59748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83680" y="359748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939120" y="359748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75CF-A1ED-401D-897D-E731BF43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F83-D323-4FB2-AAC0-25FAB418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01B-28A2-4BE3-9FF7-FC849374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D43-F963-4DA0-B992-AEF9360D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A7C-5595-451E-9E5C-6A05F2DA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FF7B-4746-418A-9BF1-3D61B6D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02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230-79E1-4F4F-9D56-6753F313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548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9AA-ADAC-458A-B1E0-AC6E42FA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F9DE-E062-4F9E-B142-71FE3EEAEEE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969E-53A1-4327-A80D-873679613B3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rwright.wikispaces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: To gain an understanding of the main opponents of the T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Bi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udalism, Autocracy, Autocrat, Tsar, Russification, Communism, Capitalism, Serfdom, Famine, Manchuria, Alexandra, Marxism, Karl Marx, Enge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opponents of the T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cial Democrats, in 1903 splits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sheviks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lshevi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cialist Revolutio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b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the educated classes and some n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elections and a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civi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Democ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create a socialis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xist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over tactics to bring about the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ist Revolut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Pea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violently overthrow the Tsar and his 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redistribute the land to be farmed collect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there is much much mo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must split into 4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roup will be given an opposition group to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etails on the sheet which you can download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rwright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download this presen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7:38:10Z</dcterms:created>
  <dc:creator>Dulwich</dc:creator>
  <dc:description/>
  <dc:language>en-US</dc:language>
  <cp:lastModifiedBy>Dulwich</cp:lastModifiedBy>
  <dcterms:modified xsi:type="dcterms:W3CDTF">2007-09-06T07:58:46Z</dcterms:modified>
  <cp:revision>3</cp:revision>
  <dc:subject/>
  <dc:title>Objective: To gain an understanding of the main opponents of the Tsar</dc:title>
</cp:coreProperties>
</file>